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7884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494240"/>
            <a:ext cx="817884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215892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494240"/>
            <a:ext cx="39909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215892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494240"/>
            <a:ext cx="263340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an Pablo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ean, renewable energies for a developing commun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2926080" y="6700320"/>
            <a:ext cx="429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Brittney, Steven, Trevor, Jas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The Problem</a:t>
            </a: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	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7600" y="2171880"/>
            <a:ext cx="3568680" cy="505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7000"/>
          </a:bodyPr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an Pablo needs electricity off the gri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7160" indent="-43056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ergy needs to be reliable, sustainable, and specific to their commun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330800" y="2701800"/>
            <a:ext cx="5626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-20340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What’s been done</a:t>
            </a: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	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720" y="1282680"/>
            <a:ext cx="5143320" cy="622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70320" indent="-426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empts at solar panels have worked but have not supplied enough electricity to sustain the villag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0320" indent="-426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d turbines might harm endangered bat spec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70320" indent="-426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evious attempt at micro-hydro technology proved to not produce enough ener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43480" y="2108160"/>
            <a:ext cx="453708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onstraint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79360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nding for solu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cological risks on environ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intenance &amp; educ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698400" indent="-4442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ility with the culture/ lifesty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3360" y="2068560"/>
            <a:ext cx="2781360" cy="34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roblem Statemen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847800" y="201924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an Pablo relies on electricity for their everyday lives but due to political and financial and cultural issues, need to separate themselves from the power company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870280" y="4160880"/>
            <a:ext cx="4406760" cy="349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